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2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63FF-DC0D-4615-BB23-4CB2D366D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5EA6-ABF2-4039-BA46-FA711B570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0441-2E5F-45E2-A3D5-8E799C5F8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5938-6C4F-4470-9FD7-9A2E43D92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344A4-7A60-4246-975D-995A9BEEB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B10A6-25A7-4BF2-8FE0-B246FE43A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8D180-5EFA-47F3-98FD-C7D587770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4BFC8-9754-4153-84E4-2E90F715C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31B22-E2B1-498E-A4CA-894A9B3A3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1C684-229E-40D8-8739-3394D4065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95F83-CE89-42D1-A96E-63C2231F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B856-E572-4E27-9287-6598F9631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5782A-DA66-4A13-97D4-5C653FD3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AE485-7C2E-4F77-9B24-201ADD48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5DC95-8520-4A51-8364-AD009A416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21DFA-EAF5-4F9D-BB80-44CA7D9A5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7F00A-C657-4BC0-B54F-BC85F41D3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D72B-590C-440B-A7BD-6CDA3C47E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5CD9-4133-4671-A05C-35168A25D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DDC5-57FE-4E2A-AB28-5E0F1F89D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583E-A8D7-44D1-B988-55B35D8D4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4947-7A0B-4AEC-A974-E0407AF4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3E56-3D30-4DC1-9060-DAF876C8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dd89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5AC3-B725-4167-8A37-3AC5B75F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27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d89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dd89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dd8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cc66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dd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75166-9363-4CBB-807C-245624EA988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ffdd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dd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c271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ffdd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d89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dd89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dd8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cc66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dd8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6D354-C955-4846-AC83-59A103E11CD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dd89"/>
                </a:solidFill>
                <a:latin typeface="Century Gothic"/>
              </a:rPr>
              <a:t>4</a:t>
            </a:r>
            <a:r>
              <a:rPr b="0" lang="en-US" sz="5400" spc="-1" strike="noStrike" baseline="30000">
                <a:solidFill>
                  <a:srgbClr val="ffdd89"/>
                </a:solidFill>
                <a:latin typeface="Century Gothic"/>
              </a:rPr>
              <a:t>th</a:t>
            </a:r>
            <a:r>
              <a:rPr b="0" lang="en-US" sz="5400" spc="-1" strike="noStrike">
                <a:solidFill>
                  <a:srgbClr val="ffdd89"/>
                </a:solidFill>
                <a:latin typeface="Century Gothic"/>
              </a:rPr>
              <a:t> 9-weeks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dd89"/>
                </a:solidFill>
                <a:latin typeface="Century Gothic"/>
              </a:rPr>
              <a:t>Review</a:t>
            </a:r>
            <a:endParaRPr b="0" lang="en-US" sz="54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Innovations in Technology (Internet)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352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Who uses tax revenue from individuals and businesses to provide public goods and services?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d89"/>
                </a:solidFill>
                <a:latin typeface="Century Gothic"/>
              </a:rPr>
              <a:t>governments</a:t>
            </a:r>
            <a:endParaRPr b="0" lang="en-US" sz="44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Who promotes and regulates competition?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d89"/>
                </a:solidFill>
                <a:latin typeface="Century Gothic"/>
              </a:rPr>
              <a:t>The government</a:t>
            </a:r>
            <a:endParaRPr b="0" lang="en-US" sz="44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d89"/>
                </a:solidFill>
                <a:latin typeface="Century Gothic"/>
              </a:rPr>
              <a:t>What does EPA stand for?</a:t>
            </a:r>
            <a:endParaRPr b="0" lang="en-US" sz="44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Environmental Protection Agency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d89"/>
                </a:solidFill>
                <a:latin typeface="Century Gothic"/>
              </a:rPr>
              <a:t>What does FCC stand for?</a:t>
            </a:r>
            <a:endParaRPr b="0" lang="en-US" sz="44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Federal Communications Commission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Tell the three government agencies that regulate business.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419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d89"/>
                </a:solidFill>
                <a:latin typeface="Century Gothic"/>
              </a:rPr>
              <a:t>Government and Economy</a:t>
            </a:r>
            <a:br>
              <a:rPr sz="4400"/>
            </a:br>
            <a:r>
              <a:rPr b="0" lang="en-US" sz="4400" spc="-1" strike="noStrike">
                <a:solidFill>
                  <a:srgbClr val="ffdd89"/>
                </a:solidFill>
                <a:latin typeface="Century Gothic"/>
              </a:rPr>
              <a:t>CE.11 a-d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dd89"/>
                </a:solidFill>
                <a:latin typeface="Century Gothic"/>
              </a:rPr>
              <a:t>Workforce and Careers</a:t>
            </a:r>
            <a:br>
              <a:rPr sz="4400"/>
            </a:br>
            <a:r>
              <a:rPr b="0" lang="en-US" sz="4400" spc="-1" strike="noStrike">
                <a:solidFill>
                  <a:srgbClr val="ffdd89"/>
                </a:solidFill>
                <a:latin typeface="Century Gothic"/>
              </a:rPr>
              <a:t>CE.10 d</a:t>
            </a:r>
            <a:br>
              <a:rPr sz="4400"/>
            </a:br>
            <a:r>
              <a:rPr b="0" lang="en-US" sz="4400" spc="-1" strike="noStrike">
                <a:solidFill>
                  <a:srgbClr val="ffdd89"/>
                </a:solidFill>
                <a:latin typeface="Century Gothic"/>
              </a:rPr>
              <a:t>CE.12 a-d</a:t>
            </a:r>
            <a:endParaRPr b="0" lang="en-US" sz="44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FCC</a:t>
            </a:r>
            <a:br>
              <a:rPr sz="4000"/>
            </a:b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EPA</a:t>
            </a:r>
            <a:br>
              <a:rPr sz="4000"/>
            </a:b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FTC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Give three ways the government promotes marketplace competition.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419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1.  Enforcing antitrust legislation to discourage the development of monopolies</a:t>
            </a:r>
            <a:br>
              <a:rPr sz="4000"/>
            </a:b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2.  Engaging in global trade</a:t>
            </a:r>
            <a:br>
              <a:rPr sz="4000"/>
            </a:b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3.  Supporting business start-ups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3809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Which Amendment to the Constitution of the United States of America authorizes Congress to tax incomes (personal and business)?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d89"/>
                </a:solidFill>
                <a:latin typeface="Century Gothic"/>
              </a:rPr>
              <a:t>16</a:t>
            </a:r>
            <a:r>
              <a:rPr b="0" lang="en-US" sz="4400" spc="-1" strike="noStrike" baseline="30000">
                <a:solidFill>
                  <a:srgbClr val="ffdd89"/>
                </a:solidFill>
                <a:latin typeface="Century Gothic"/>
              </a:rPr>
              <a:t>th</a:t>
            </a:r>
            <a:r>
              <a:rPr b="0" lang="en-US" sz="4400" spc="-1" strike="noStrike">
                <a:solidFill>
                  <a:srgbClr val="ffdd89"/>
                </a:solidFill>
                <a:latin typeface="Century Gothic"/>
              </a:rPr>
              <a:t> Amendment</a:t>
            </a:r>
            <a:endParaRPr b="0" lang="en-US" sz="44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3504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What do we call worldwide markets in which the buying and selling of goods and services by all nations takes place?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d89"/>
                </a:solidFill>
                <a:latin typeface="Century Gothic"/>
              </a:rPr>
              <a:t>Global Economy</a:t>
            </a:r>
            <a:endParaRPr b="0" lang="en-US" sz="44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Give three reasons why states and nations trade.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-762120" algn="ctr">
              <a:buClr>
                <a:srgbClr val="ffdd8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To obtain goods and services they cannot produce or produce efficiently themselves.</a:t>
            </a:r>
            <a:br>
              <a:rPr sz="4000"/>
            </a:b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2.  To buy goods and services at a lower cost or a lower opportunity cost.</a:t>
            </a:r>
            <a:br>
              <a:rPr sz="4000"/>
            </a:b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3.  To sell goods and services to other countries.</a:t>
            </a:r>
            <a:br>
              <a:rPr sz="4000"/>
            </a:b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4.  To create jobs.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3885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Virginia and the United States ___________ in the production of certain goods and services which promotes efficiency and growth.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d89"/>
                </a:solidFill>
                <a:latin typeface="Century Gothic"/>
              </a:rPr>
              <a:t>What does the FTC stand for?</a:t>
            </a:r>
            <a:endParaRPr b="0" lang="en-US" sz="44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d89"/>
                </a:solidFill>
                <a:latin typeface="Century Gothic"/>
              </a:rPr>
              <a:t>specialize</a:t>
            </a:r>
            <a:endParaRPr b="0" lang="en-US" sz="44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What reduces funds available for borrowing by individuals and businesses?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Increased government borrowing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What increases funds available for borrowing by individuals and businesses?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Decreased government borrowing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What may result in lower taxes?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Decreased government spending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What might result in higher taxes?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Increased government spending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What reduces demand, which may result in a slowing of the economy?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d89"/>
                </a:solidFill>
                <a:latin typeface="Century Gothic"/>
              </a:rPr>
              <a:t>Federal Trade Commission</a:t>
            </a:r>
            <a:endParaRPr b="0" lang="en-US" sz="44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Decreased government spending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What increases demand, which may increase employment and production?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Increased government spending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What increases funds for private and business spending?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d89"/>
                </a:solidFill>
                <a:latin typeface="Century Gothic"/>
              </a:rPr>
              <a:t>Government tax decreases</a:t>
            </a:r>
            <a:endParaRPr b="0" lang="en-US" sz="44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What reduces the funds available for private and business spending?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d89"/>
                </a:solidFill>
                <a:latin typeface="Century Gothic"/>
              </a:rPr>
              <a:t>Government tax increases</a:t>
            </a:r>
            <a:endParaRPr b="0" lang="en-US" sz="44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Give three ways the Federal Reserve Bank slows the economy.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4038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-762120" algn="ctr">
              <a:buClr>
                <a:srgbClr val="ffdd8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Increases the reserve requirement.</a:t>
            </a:r>
            <a:br>
              <a:rPr sz="4000"/>
            </a:b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2.  Raises the discount rate.</a:t>
            </a:r>
            <a:br>
              <a:rPr sz="4000"/>
            </a:b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3.  Sells government securities.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Give three ways the Federal Reserve Bank stimulates the economy.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99"/>
                </a:solidFill>
                <a:latin typeface="Century Gothic"/>
              </a:rPr>
              <a:t>Name 3 examples of public goods and services.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62120" indent="-762120">
              <a:buClr>
                <a:srgbClr val="ffdd89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Lowers the reserve requirement.</a:t>
            </a:r>
            <a:br>
              <a:rPr sz="4000"/>
            </a:b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2.  Lowers the discount rate.</a:t>
            </a:r>
            <a:br>
              <a:rPr sz="4000"/>
            </a:b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3.  Purchases government securities.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What does the Federal Reserve System regulate?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d89"/>
                </a:solidFill>
                <a:latin typeface="Century Gothic"/>
              </a:rPr>
              <a:t>Money supply</a:t>
            </a:r>
            <a:endParaRPr b="0" lang="en-US" sz="44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342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What does the Federal Reserve Bank act as by issuing currency and regulating the amount of money in circulation?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d89"/>
                </a:solidFill>
                <a:latin typeface="Century Gothic"/>
              </a:rPr>
              <a:t>A banker’s bank</a:t>
            </a:r>
            <a:endParaRPr b="0" lang="en-US" sz="44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How does the Federal Reserve Bank stimulate the economy?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It increases the money supply causing interest rates to decline.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What is the central bank of the United States?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The Federal Reserve System (Fed)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How does the Federal Reserve Bank slow the economy?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Interstate Highways</a:t>
            </a:r>
            <a:br>
              <a:rPr sz="4000"/>
            </a:b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Postal Service</a:t>
            </a:r>
            <a:br>
              <a:rPr sz="4000"/>
            </a:b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National Defense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It restricts the money supply, causing interest rates to rise.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Individuals have the right of private ownership.  How is this private ownership protected?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It’s protected by negotiated contracts that are enforceable by law.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Government agencies establish guidelines that protect public _______ and _______.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d89"/>
                </a:solidFill>
                <a:latin typeface="Century Gothic"/>
              </a:rPr>
              <a:t>Health and safety</a:t>
            </a:r>
            <a:endParaRPr b="0" lang="en-US" sz="44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Who may take legal action against violations of consumer rights?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d89"/>
                </a:solidFill>
                <a:latin typeface="Century Gothic"/>
              </a:rPr>
              <a:t>consumers</a:t>
            </a:r>
            <a:endParaRPr b="0" lang="en-US" sz="44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Who passes laws and creates agencies to protect consumer rights and property rights?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The United States government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______ and ______ also influence job income.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27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Why does the government provide public goods and services?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d89"/>
                </a:solidFill>
                <a:latin typeface="Century Gothic"/>
              </a:rPr>
              <a:t>Supply and demand</a:t>
            </a:r>
            <a:endParaRPr b="0" lang="en-US" sz="44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Innovation in technology (e.g. the Internet) contribute to what?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The global flow of information, capital, goods and services.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Use of technological innovations does what to the cost of production?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d89"/>
                </a:solidFill>
                <a:latin typeface="Century Gothic"/>
              </a:rPr>
              <a:t>Lowers it</a:t>
            </a:r>
            <a:endParaRPr b="0" lang="en-US" sz="44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What does career planning start with?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d89"/>
                </a:solidFill>
                <a:latin typeface="Century Gothic"/>
              </a:rPr>
              <a:t>Self-assessment</a:t>
            </a:r>
            <a:endParaRPr b="0" lang="en-US" sz="44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Employers seek individuals who have kept pace with what?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d89"/>
                </a:solidFill>
                <a:latin typeface="Century Gothic"/>
              </a:rPr>
              <a:t>Technological change/skills</a:t>
            </a:r>
            <a:endParaRPr b="0" lang="en-US" sz="44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What kind of employees does an employer seek?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Would not be available if individuals had to provide them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Employees who demonstrate the attitudes and behaviors of a strong work ethic.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880" y="3504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TRUE OR FALSE?</a:t>
            </a:r>
            <a:br>
              <a:rPr sz="4000"/>
            </a:b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There is not a correlation between skills, education and income.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d89"/>
                </a:solidFill>
                <a:latin typeface="Century Gothic"/>
              </a:rPr>
              <a:t>FALSE</a:t>
            </a:r>
            <a:endParaRPr b="0" lang="en-US" sz="44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What is needed to select a career?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An awareness of individual talents, interests and aspirations.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What do Virginia and the United States do in order to increase wealth?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dd89"/>
                </a:solidFill>
                <a:latin typeface="Century Gothic"/>
              </a:rPr>
              <a:t>Pursue international trade</a:t>
            </a:r>
            <a:endParaRPr b="0" lang="en-US" sz="44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42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dd89"/>
                </a:solidFill>
                <a:latin typeface="Century Gothic"/>
              </a:rPr>
              <a:t>What has contributed to the global flow of information, capital, and goods and services?</a:t>
            </a:r>
            <a:endParaRPr b="0" lang="en-US" sz="4000" spc="-1" strike="noStrike">
              <a:solidFill>
                <a:srgbClr val="ffdd8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0T13:05:20Z</dcterms:created>
  <dc:creator>paupulley</dc:creator>
  <dc:description/>
  <dc:language>en-US</dc:language>
  <cp:lastModifiedBy>Phillip McGinnis</cp:lastModifiedBy>
  <dcterms:modified xsi:type="dcterms:W3CDTF">2012-06-01T15:12:44Z</dcterms:modified>
  <cp:revision>8</cp:revision>
  <dc:subject/>
  <dc:title>4th 9-weeks</dc:title>
</cp:coreProperties>
</file>